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1523663" cy="11523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C32-9945-455F-A7CE-81EDB57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103694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6660360"/>
            <a:ext cx="103694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8C0-D775-46E7-B3E0-8D78853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666036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666036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8D2-A0C6-4A99-AF73-6127F2C6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268920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268920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666036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666036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6660360"/>
            <a:ext cx="33386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BB8-5DF0-4E50-B49D-F3F9E322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2689200"/>
            <a:ext cx="1036944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CC5-8D83-49F1-929F-B63C8DD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1036944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70C-155D-4F16-BFD8-0D6A770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506016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2689200"/>
            <a:ext cx="506016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396-3929-4756-960D-5663E51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983-5357-4F31-885C-4258C5D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461880"/>
            <a:ext cx="10369440" cy="88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0D6-FC68-47FB-83A7-98856A0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2689200"/>
            <a:ext cx="506016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666036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F15-2652-4C28-8CED-8676916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506016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666036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5BA-E8A0-49E0-A843-A2B8E54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2689200"/>
            <a:ext cx="506016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6660360"/>
            <a:ext cx="10369440" cy="36262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49B-6C18-44D2-A242-A0FD6B3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461880"/>
            <a:ext cx="10369440" cy="1919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2689200"/>
            <a:ext cx="10369440" cy="760248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t">
            <a:normAutofit/>
          </a:bodyPr>
          <a:p>
            <a:pPr marL="492120" indent="-492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41112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644480" indent="-3283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303640" indent="-3286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2960640" indent="-3286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2960640" indent="-3286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2960640" indent="-3286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10678680"/>
            <a:ext cx="2687400" cy="614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  <a:defRPr b="0" lang="en-GB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10678680"/>
            <a:ext cx="3648240" cy="614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p>
            <a:pPr indent="0"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10678680"/>
            <a:ext cx="2687760" cy="614520"/>
          </a:xfrm>
          <a:prstGeom prst="rect">
            <a:avLst/>
          </a:prstGeom>
          <a:noFill/>
          <a:ln w="0">
            <a:noFill/>
          </a:ln>
        </p:spPr>
        <p:txBody>
          <a:bodyPr lIns="131760" rIns="131760" tIns="65880" bIns="65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  <a:defRPr b="0" lang="en-GB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fld id="{141D6962-D1CE-4982-81A9-0A0B4B7B0C94}" type="slidenum">
              <a:rPr b="0" lang="en-GB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staprint.co.uk/custom-stamps.aspx?txi=16621&amp;xnid=UseCasePage_Self-Inking+Stamps_Stamps+%26+Ink_All+Products&amp;xnav=TsrHeadin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staprint.co.uk/custom-stamps.aspx?txi=16621&amp;xnid=UseCasePage_Self-Inking+Stamps_Stamps+%26+Ink_All+Products&amp;xnav=TsrHeadin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staprint.co.uk/custom-stamps.aspx?txi=16621&amp;xnid=UseCasePage_Self-Inking+Stamps_Stamps+%26+Ink_All+Products&amp;xnav=TsrHea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taprint.co.uk/custom-stamps.aspx?txi=16621&amp;xnid=UseCasePage_Self-Inking+Stamps_Stamps+%26+Ink_All+Products&amp;xnav=TsrHeadin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71480" y="9258480"/>
            <a:ext cx="948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istaprin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8960" y="483876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981840" y="614520"/>
            <a:ext cx="425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SUPER CLE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963800" y="4941720"/>
            <a:ext cx="77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SHOW WORK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33680" y="6500880"/>
            <a:ext cx="2433240" cy="82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656520" y="7254720"/>
            <a:ext cx="282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mall Cl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ogical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8875800" y="6235560"/>
            <a:ext cx="20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9"/>
          <p:cNvCxnSpPr/>
          <p:nvPr/>
        </p:nvCxnSpPr>
        <p:spPr>
          <a:xfrm>
            <a:off x="3171600" y="6941880"/>
            <a:ext cx="440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TextBox 13"/>
          <p:cNvSpPr/>
          <p:nvPr/>
        </p:nvSpPr>
        <p:spPr>
          <a:xfrm>
            <a:off x="6617520" y="6500880"/>
            <a:ext cx="2041560" cy="82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8960" y="3096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3"/>
              <p:cNvSpPr txBox="1"/>
              <p:nvPr/>
            </p:nvSpPr>
            <p:spPr>
              <a:xfrm>
                <a:off x="473040" y="407880"/>
                <a:ext cx="6473880" cy="36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Rectangle 14"/>
          <p:cNvSpPr/>
          <p:nvPr/>
        </p:nvSpPr>
        <p:spPr>
          <a:xfrm>
            <a:off x="4057560" y="3094200"/>
            <a:ext cx="2932200" cy="8586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8"/>
          <p:cNvCxnSpPr/>
          <p:nvPr/>
        </p:nvCxnSpPr>
        <p:spPr>
          <a:xfrm>
            <a:off x="3592080" y="6941880"/>
            <a:ext cx="438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9"/>
          <p:cNvCxnSpPr/>
          <p:nvPr/>
        </p:nvCxnSpPr>
        <p:spPr>
          <a:xfrm>
            <a:off x="4030200" y="6941880"/>
            <a:ext cx="438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20"/>
          <p:cNvCxnSpPr/>
          <p:nvPr/>
        </p:nvCxnSpPr>
        <p:spPr>
          <a:xfrm>
            <a:off x="4468680" y="6941880"/>
            <a:ext cx="4406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21"/>
          <p:cNvCxnSpPr/>
          <p:nvPr/>
        </p:nvCxnSpPr>
        <p:spPr>
          <a:xfrm>
            <a:off x="4882680" y="6941880"/>
            <a:ext cx="438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2"/>
          <p:cNvCxnSpPr/>
          <p:nvPr/>
        </p:nvCxnSpPr>
        <p:spPr>
          <a:xfrm>
            <a:off x="5295600" y="6941880"/>
            <a:ext cx="438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>
            <a:off x="5733720" y="6941880"/>
            <a:ext cx="438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4"/>
          <p:cNvCxnSpPr/>
          <p:nvPr/>
        </p:nvCxnSpPr>
        <p:spPr>
          <a:xfrm>
            <a:off x="6171840" y="6941880"/>
            <a:ext cx="440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771480" y="9258480"/>
            <a:ext cx="948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istaprin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18960" y="446040"/>
            <a:ext cx="1093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EXPLAIN IN CLEAR ENGL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WHAT THIS MEA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76120" y="5006880"/>
            <a:ext cx="10982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CHECK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NUMERIC ANSWE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MAKE SEN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18960" y="3096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22200" y="4938840"/>
            <a:ext cx="1093644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771480" y="9563040"/>
            <a:ext cx="948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istaprin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52960" y="407880"/>
            <a:ext cx="64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Calibri"/>
              </a:rPr>
              <a:t>SKETCH A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57280" y="5146560"/>
            <a:ext cx="635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Calibri"/>
              </a:rPr>
              <a:t>CLEAR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Calibri"/>
              </a:rPr>
              <a:t>DIAGRAM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18960" y="3096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3840" y="5051520"/>
            <a:ext cx="1093464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5"/>
          <p:cNvCxnSpPr/>
          <p:nvPr/>
        </p:nvCxnSpPr>
        <p:spPr>
          <a:xfrm flipV="1">
            <a:off x="7249680" y="783720"/>
            <a:ext cx="1080" cy="29678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Straight Arrow Connector 13"/>
          <p:cNvCxnSpPr/>
          <p:nvPr/>
        </p:nvCxnSpPr>
        <p:spPr>
          <a:xfrm>
            <a:off x="7192800" y="3720600"/>
            <a:ext cx="3066480" cy="108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" name="Object 19"/>
              <p:cNvSpPr txBox="1"/>
              <p:nvPr/>
            </p:nvSpPr>
            <p:spPr>
              <a:xfrm>
                <a:off x="7469280" y="353880"/>
                <a:ext cx="11113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0"/>
              <p:cNvSpPr txBox="1"/>
              <p:nvPr/>
            </p:nvSpPr>
            <p:spPr>
              <a:xfrm>
                <a:off x="10113840" y="3182760"/>
                <a:ext cx="10098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Arc 21"/>
          <p:cNvSpPr/>
          <p:nvPr/>
        </p:nvSpPr>
        <p:spPr>
          <a:xfrm flipV="1" rot="17742000">
            <a:off x="7322040" y="1947960"/>
            <a:ext cx="2516040" cy="2327400"/>
          </a:xfrm>
          <a:custGeom>
            <a:avLst/>
            <a:gdLst/>
            <a:ahLst/>
            <a:rect l="l" t="t" r="r" b="b"/>
            <a:pathLst>
              <a:path stroke="0" w="2515710" h="2328539">
                <a:moveTo>
                  <a:pt x="1872100" y="962660"/>
                </a:moveTo>
                <a:cubicBezTo>
                  <a:pt x="2666646" y="1317439"/>
                  <a:pt x="2063097" y="1564916"/>
                  <a:pt x="1751080" y="1754957"/>
                </a:cubicBezTo>
                <a:cubicBezTo>
                  <a:pt x="1439063" y="1944998"/>
                  <a:pt x="616172" y="2312707"/>
                  <a:pt x="0" y="2102906"/>
                </a:cubicBezTo>
                <a:lnTo>
                  <a:pt x="941499" y="1227688"/>
                </a:lnTo>
                <a:lnTo>
                  <a:pt x="1318680" y="3821"/>
                </a:lnTo>
                <a:cubicBezTo>
                  <a:pt x="1515694" y="152294"/>
                  <a:pt x="1986250" y="-66938"/>
                  <a:pt x="2183264" y="81535"/>
                </a:cubicBezTo>
                <a:lnTo>
                  <a:pt x="1872100" y="962660"/>
                </a:lnTo>
                <a:close/>
              </a:path>
              <a:path fill="none" w="2515710" h="2328539">
                <a:moveTo>
                  <a:pt x="1143344" y="0"/>
                </a:moveTo>
                <a:cubicBezTo>
                  <a:pt x="1810558" y="519012"/>
                  <a:pt x="2927515" y="1531544"/>
                  <a:pt x="2360010" y="2096234"/>
                </a:cubicBezTo>
                <a:cubicBezTo>
                  <a:pt x="1942801" y="2511373"/>
                  <a:pt x="758561" y="2284570"/>
                  <a:pt x="142389" y="2074769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6"/>
          <p:cNvSpPr/>
          <p:nvPr/>
        </p:nvSpPr>
        <p:spPr>
          <a:xfrm flipV="1">
            <a:off x="8215200" y="5516280"/>
            <a:ext cx="2540160" cy="26859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7"/>
          <p:cNvSpPr/>
          <p:nvPr/>
        </p:nvSpPr>
        <p:spPr>
          <a:xfrm>
            <a:off x="8258040" y="8180280"/>
            <a:ext cx="2540160" cy="0"/>
          </a:xfrm>
          <a:prstGeom prst="line">
            <a:avLst/>
          </a:prstGeom>
          <a:ln w="127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8"/>
          <p:cNvSpPr/>
          <p:nvPr/>
        </p:nvSpPr>
        <p:spPr>
          <a:xfrm flipV="1">
            <a:off x="10737720" y="5516280"/>
            <a:ext cx="0" cy="2685960"/>
          </a:xfrm>
          <a:prstGeom prst="line">
            <a:avLst/>
          </a:prstGeom>
          <a:ln w="127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3"/>
          <p:cNvSpPr/>
          <p:nvPr/>
        </p:nvSpPr>
        <p:spPr>
          <a:xfrm>
            <a:off x="10422000" y="5343480"/>
            <a:ext cx="579240" cy="57960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 rot="18759600">
            <a:off x="8366040" y="5686200"/>
            <a:ext cx="1387440" cy="13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39"/>
          <p:cNvCxnSpPr/>
          <p:nvPr/>
        </p:nvCxnSpPr>
        <p:spPr>
          <a:xfrm>
            <a:off x="9204120" y="6129360"/>
            <a:ext cx="1080" cy="287532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44"/>
          <p:cNvCxnSpPr/>
          <p:nvPr/>
        </p:nvCxnSpPr>
        <p:spPr>
          <a:xfrm flipH="1" flipV="1">
            <a:off x="7971840" y="5296680"/>
            <a:ext cx="896040" cy="9104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50"/>
          <p:cNvCxnSpPr/>
          <p:nvPr/>
        </p:nvCxnSpPr>
        <p:spPr>
          <a:xfrm>
            <a:off x="7405200" y="5424480"/>
            <a:ext cx="1080" cy="143532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52"/>
          <p:cNvCxnSpPr/>
          <p:nvPr/>
        </p:nvCxnSpPr>
        <p:spPr>
          <a:xfrm>
            <a:off x="7405200" y="5970600"/>
            <a:ext cx="1080" cy="143532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>
            <a:off x="7405200" y="6490800"/>
            <a:ext cx="1080" cy="143568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771480" y="9258480"/>
            <a:ext cx="948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istaprin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-38160" y="316080"/>
            <a:ext cx="117331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Calibri"/>
              </a:rPr>
              <a:t>WRITE  </a:t>
            </a:r>
            <a:r>
              <a:rPr b="1" lang="en-GB" sz="6500" spc="-1" strike="noStrike">
                <a:solidFill>
                  <a:srgbClr val="000000"/>
                </a:solidFill>
                <a:latin typeface="Calibri"/>
              </a:rPr>
              <a:t>CORRECTION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Calibri"/>
              </a:rPr>
              <a:t>WHEN WE GO THROUGH WORK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Calibri"/>
              </a:rPr>
              <a:t>YOU WILL GET MORE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Calibri"/>
              </a:rPr>
              <a:t>RIGHT NEXT TIM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-81000" y="4818240"/>
            <a:ext cx="1173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WELL DON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18960" y="3096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55680" y="4759200"/>
            <a:ext cx="1093608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-79200" y="5862600"/>
            <a:ext cx="118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MASSIVE EFFO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-Point Star 12"/>
          <p:cNvSpPr/>
          <p:nvPr/>
        </p:nvSpPr>
        <p:spPr>
          <a:xfrm>
            <a:off x="952560" y="5105520"/>
            <a:ext cx="712800" cy="569880"/>
          </a:xfrm>
          <a:custGeom>
            <a:avLst/>
            <a:gdLst/>
            <a:ahLst/>
            <a:rect l="l" t="t" r="r" b="b"/>
            <a:pathLst>
              <a:path w="712788" h="569913">
                <a:moveTo>
                  <a:pt x="1" y="217687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6" y="217688"/>
                </a:lnTo>
                <a:lnTo>
                  <a:pt x="712787" y="217687"/>
                </a:lnTo>
                <a:lnTo>
                  <a:pt x="492522" y="352224"/>
                </a:lnTo>
                <a:lnTo>
                  <a:pt x="576657" y="569912"/>
                </a:lnTo>
                <a:lnTo>
                  <a:pt x="356394" y="435372"/>
                </a:lnTo>
                <a:lnTo>
                  <a:pt x="136131" y="569912"/>
                </a:lnTo>
                <a:lnTo>
                  <a:pt x="220266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-Point Star 13"/>
          <p:cNvSpPr/>
          <p:nvPr/>
        </p:nvSpPr>
        <p:spPr>
          <a:xfrm>
            <a:off x="9732960" y="5105520"/>
            <a:ext cx="712800" cy="569880"/>
          </a:xfrm>
          <a:custGeom>
            <a:avLst/>
            <a:gdLst/>
            <a:ahLst/>
            <a:rect l="l" t="t" r="r" b="b"/>
            <a:pathLst>
              <a:path w="712787" h="569913">
                <a:moveTo>
                  <a:pt x="1" y="217687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5" y="217688"/>
                </a:lnTo>
                <a:lnTo>
                  <a:pt x="712786" y="217687"/>
                </a:lnTo>
                <a:lnTo>
                  <a:pt x="492521" y="352224"/>
                </a:lnTo>
                <a:lnTo>
                  <a:pt x="576656" y="569912"/>
                </a:lnTo>
                <a:lnTo>
                  <a:pt x="356394" y="435372"/>
                </a:lnTo>
                <a:lnTo>
                  <a:pt x="136131" y="569912"/>
                </a:lnTo>
                <a:lnTo>
                  <a:pt x="220266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-Point Star 14"/>
          <p:cNvSpPr/>
          <p:nvPr/>
        </p:nvSpPr>
        <p:spPr>
          <a:xfrm>
            <a:off x="9732960" y="7667640"/>
            <a:ext cx="712800" cy="569880"/>
          </a:xfrm>
          <a:custGeom>
            <a:avLst/>
            <a:gdLst/>
            <a:ahLst/>
            <a:rect l="l" t="t" r="r" b="b"/>
            <a:pathLst>
              <a:path w="712787" h="569913">
                <a:moveTo>
                  <a:pt x="1" y="217687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5" y="217688"/>
                </a:lnTo>
                <a:lnTo>
                  <a:pt x="712786" y="217687"/>
                </a:lnTo>
                <a:lnTo>
                  <a:pt x="492521" y="352224"/>
                </a:lnTo>
                <a:lnTo>
                  <a:pt x="576656" y="569912"/>
                </a:lnTo>
                <a:lnTo>
                  <a:pt x="356394" y="435372"/>
                </a:lnTo>
                <a:lnTo>
                  <a:pt x="136131" y="569912"/>
                </a:lnTo>
                <a:lnTo>
                  <a:pt x="220266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-Point Star 15"/>
          <p:cNvSpPr/>
          <p:nvPr/>
        </p:nvSpPr>
        <p:spPr>
          <a:xfrm>
            <a:off x="920880" y="7667640"/>
            <a:ext cx="712800" cy="569880"/>
          </a:xfrm>
          <a:custGeom>
            <a:avLst/>
            <a:gdLst/>
            <a:ahLst/>
            <a:rect l="l" t="t" r="r" b="b"/>
            <a:pathLst>
              <a:path w="712788" h="569913">
                <a:moveTo>
                  <a:pt x="1" y="217687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6" y="217688"/>
                </a:lnTo>
                <a:lnTo>
                  <a:pt x="712787" y="217687"/>
                </a:lnTo>
                <a:lnTo>
                  <a:pt x="492522" y="352224"/>
                </a:lnTo>
                <a:lnTo>
                  <a:pt x="576657" y="569912"/>
                </a:lnTo>
                <a:lnTo>
                  <a:pt x="356394" y="435372"/>
                </a:lnTo>
                <a:lnTo>
                  <a:pt x="136131" y="569912"/>
                </a:lnTo>
                <a:lnTo>
                  <a:pt x="220266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411120" y="412920"/>
            <a:ext cx="5510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CLEAR LAY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CORRECT MA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OR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950360" y="1602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760000" y="105264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959640" y="19764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851000" y="288612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881760" y="1162080"/>
            <a:ext cx="41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FANTASTIC WOR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411120" y="9217080"/>
            <a:ext cx="9131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istaprint 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14"/>
          <p:cNvSpPr/>
          <p:nvPr/>
        </p:nvSpPr>
        <p:spPr>
          <a:xfrm>
            <a:off x="6831000" y="3581280"/>
            <a:ext cx="712800" cy="569880"/>
          </a:xfrm>
          <a:custGeom>
            <a:avLst/>
            <a:gdLst/>
            <a:ahLst/>
            <a:rect l="l" t="t" r="r" b="b"/>
            <a:pathLst>
              <a:path w="712787" h="569913">
                <a:moveTo>
                  <a:pt x="1" y="217687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5" y="217688"/>
                </a:lnTo>
                <a:lnTo>
                  <a:pt x="712786" y="217687"/>
                </a:lnTo>
                <a:lnTo>
                  <a:pt x="492521" y="352224"/>
                </a:lnTo>
                <a:lnTo>
                  <a:pt x="576656" y="569912"/>
                </a:lnTo>
                <a:lnTo>
                  <a:pt x="356394" y="435372"/>
                </a:lnTo>
                <a:lnTo>
                  <a:pt x="136131" y="569912"/>
                </a:lnTo>
                <a:lnTo>
                  <a:pt x="220266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-Point Star 15"/>
          <p:cNvSpPr/>
          <p:nvPr/>
        </p:nvSpPr>
        <p:spPr>
          <a:xfrm>
            <a:off x="7736040" y="3586320"/>
            <a:ext cx="712800" cy="571320"/>
          </a:xfrm>
          <a:custGeom>
            <a:avLst/>
            <a:gdLst/>
            <a:ahLst/>
            <a:rect l="l" t="t" r="r" b="b"/>
            <a:pathLst>
              <a:path w="712787" h="571500">
                <a:moveTo>
                  <a:pt x="1" y="218293"/>
                </a:moveTo>
                <a:lnTo>
                  <a:pt x="272262" y="218295"/>
                </a:lnTo>
                <a:lnTo>
                  <a:pt x="356394" y="0"/>
                </a:lnTo>
                <a:lnTo>
                  <a:pt x="440525" y="218295"/>
                </a:lnTo>
                <a:lnTo>
                  <a:pt x="712786" y="218293"/>
                </a:lnTo>
                <a:lnTo>
                  <a:pt x="492521" y="353205"/>
                </a:lnTo>
                <a:lnTo>
                  <a:pt x="576656" y="571499"/>
                </a:lnTo>
                <a:lnTo>
                  <a:pt x="356394" y="436584"/>
                </a:lnTo>
                <a:lnTo>
                  <a:pt x="136131" y="571499"/>
                </a:lnTo>
                <a:lnTo>
                  <a:pt x="220266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-Point Star 16"/>
          <p:cNvSpPr/>
          <p:nvPr/>
        </p:nvSpPr>
        <p:spPr>
          <a:xfrm>
            <a:off x="10442520" y="3579840"/>
            <a:ext cx="712800" cy="571320"/>
          </a:xfrm>
          <a:custGeom>
            <a:avLst/>
            <a:gdLst/>
            <a:ahLst/>
            <a:rect l="l" t="t" r="r" b="b"/>
            <a:pathLst>
              <a:path w="712788" h="571500">
                <a:moveTo>
                  <a:pt x="1" y="218293"/>
                </a:moveTo>
                <a:lnTo>
                  <a:pt x="272262" y="218295"/>
                </a:lnTo>
                <a:lnTo>
                  <a:pt x="356394" y="0"/>
                </a:lnTo>
                <a:lnTo>
                  <a:pt x="440526" y="218295"/>
                </a:lnTo>
                <a:lnTo>
                  <a:pt x="712787" y="218293"/>
                </a:lnTo>
                <a:lnTo>
                  <a:pt x="492522" y="353205"/>
                </a:lnTo>
                <a:lnTo>
                  <a:pt x="576657" y="571499"/>
                </a:lnTo>
                <a:lnTo>
                  <a:pt x="356394" y="436584"/>
                </a:lnTo>
                <a:lnTo>
                  <a:pt x="136131" y="571499"/>
                </a:lnTo>
                <a:lnTo>
                  <a:pt x="220266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-Point Star 17"/>
          <p:cNvSpPr/>
          <p:nvPr/>
        </p:nvSpPr>
        <p:spPr>
          <a:xfrm>
            <a:off x="9542520" y="3586320"/>
            <a:ext cx="711000" cy="569880"/>
          </a:xfrm>
          <a:custGeom>
            <a:avLst/>
            <a:gdLst/>
            <a:ahLst/>
            <a:rect l="l" t="t" r="r" b="b"/>
            <a:pathLst>
              <a:path w="711200" h="569912">
                <a:moveTo>
                  <a:pt x="1" y="217686"/>
                </a:moveTo>
                <a:lnTo>
                  <a:pt x="271656" y="217688"/>
                </a:lnTo>
                <a:lnTo>
                  <a:pt x="355600" y="0"/>
                </a:lnTo>
                <a:lnTo>
                  <a:pt x="439544" y="217688"/>
                </a:lnTo>
                <a:lnTo>
                  <a:pt x="711199" y="217686"/>
                </a:lnTo>
                <a:lnTo>
                  <a:pt x="491425" y="352224"/>
                </a:lnTo>
                <a:lnTo>
                  <a:pt x="575372" y="569911"/>
                </a:lnTo>
                <a:lnTo>
                  <a:pt x="355600" y="435371"/>
                </a:lnTo>
                <a:lnTo>
                  <a:pt x="135828" y="569911"/>
                </a:lnTo>
                <a:lnTo>
                  <a:pt x="219775" y="352224"/>
                </a:lnTo>
                <a:lnTo>
                  <a:pt x="1" y="2176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-Point Star 18"/>
          <p:cNvSpPr/>
          <p:nvPr/>
        </p:nvSpPr>
        <p:spPr>
          <a:xfrm>
            <a:off x="8636040" y="3579840"/>
            <a:ext cx="712800" cy="571320"/>
          </a:xfrm>
          <a:custGeom>
            <a:avLst/>
            <a:gdLst/>
            <a:ahLst/>
            <a:rect l="l" t="t" r="r" b="b"/>
            <a:pathLst>
              <a:path w="712788" h="571500">
                <a:moveTo>
                  <a:pt x="1" y="218293"/>
                </a:moveTo>
                <a:lnTo>
                  <a:pt x="272262" y="218295"/>
                </a:lnTo>
                <a:lnTo>
                  <a:pt x="356394" y="0"/>
                </a:lnTo>
                <a:lnTo>
                  <a:pt x="440526" y="218295"/>
                </a:lnTo>
                <a:lnTo>
                  <a:pt x="712787" y="218293"/>
                </a:lnTo>
                <a:lnTo>
                  <a:pt x="492522" y="353205"/>
                </a:lnTo>
                <a:lnTo>
                  <a:pt x="576657" y="571499"/>
                </a:lnTo>
                <a:lnTo>
                  <a:pt x="356394" y="436584"/>
                </a:lnTo>
                <a:lnTo>
                  <a:pt x="136131" y="571499"/>
                </a:lnTo>
                <a:lnTo>
                  <a:pt x="220266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5-Point Star 19"/>
          <p:cNvSpPr/>
          <p:nvPr/>
        </p:nvSpPr>
        <p:spPr>
          <a:xfrm>
            <a:off x="6826320" y="433440"/>
            <a:ext cx="712800" cy="569880"/>
          </a:xfrm>
          <a:custGeom>
            <a:avLst/>
            <a:gdLst/>
            <a:ahLst/>
            <a:rect l="l" t="t" r="r" b="b"/>
            <a:pathLst>
              <a:path w="712788" h="569912">
                <a:moveTo>
                  <a:pt x="1" y="217686"/>
                </a:moveTo>
                <a:lnTo>
                  <a:pt x="272262" y="217688"/>
                </a:lnTo>
                <a:lnTo>
                  <a:pt x="356394" y="0"/>
                </a:lnTo>
                <a:lnTo>
                  <a:pt x="440526" y="217688"/>
                </a:lnTo>
                <a:lnTo>
                  <a:pt x="712787" y="217686"/>
                </a:lnTo>
                <a:lnTo>
                  <a:pt x="492522" y="352224"/>
                </a:lnTo>
                <a:lnTo>
                  <a:pt x="576657" y="569911"/>
                </a:lnTo>
                <a:lnTo>
                  <a:pt x="356394" y="435371"/>
                </a:lnTo>
                <a:lnTo>
                  <a:pt x="136131" y="569911"/>
                </a:lnTo>
                <a:lnTo>
                  <a:pt x="220266" y="352224"/>
                </a:lnTo>
                <a:lnTo>
                  <a:pt x="1" y="2176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Point Star 20"/>
          <p:cNvSpPr/>
          <p:nvPr/>
        </p:nvSpPr>
        <p:spPr>
          <a:xfrm>
            <a:off x="7732800" y="438120"/>
            <a:ext cx="711000" cy="571680"/>
          </a:xfrm>
          <a:custGeom>
            <a:avLst/>
            <a:gdLst/>
            <a:ahLst/>
            <a:rect l="l" t="t" r="r" b="b"/>
            <a:pathLst>
              <a:path w="711200" h="571500">
                <a:moveTo>
                  <a:pt x="1" y="218293"/>
                </a:moveTo>
                <a:lnTo>
                  <a:pt x="271656" y="218295"/>
                </a:lnTo>
                <a:lnTo>
                  <a:pt x="355600" y="0"/>
                </a:lnTo>
                <a:lnTo>
                  <a:pt x="439544" y="218295"/>
                </a:lnTo>
                <a:lnTo>
                  <a:pt x="711199" y="218293"/>
                </a:lnTo>
                <a:lnTo>
                  <a:pt x="491425" y="353205"/>
                </a:lnTo>
                <a:lnTo>
                  <a:pt x="575372" y="571499"/>
                </a:lnTo>
                <a:lnTo>
                  <a:pt x="355600" y="436584"/>
                </a:lnTo>
                <a:lnTo>
                  <a:pt x="135828" y="571499"/>
                </a:lnTo>
                <a:lnTo>
                  <a:pt x="21977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-Point Star 21"/>
          <p:cNvSpPr/>
          <p:nvPr/>
        </p:nvSpPr>
        <p:spPr>
          <a:xfrm>
            <a:off x="10437840" y="431640"/>
            <a:ext cx="712800" cy="571680"/>
          </a:xfrm>
          <a:custGeom>
            <a:avLst/>
            <a:gdLst/>
            <a:ahLst/>
            <a:rect l="l" t="t" r="r" b="b"/>
            <a:pathLst>
              <a:path w="712787" h="571500">
                <a:moveTo>
                  <a:pt x="1" y="218293"/>
                </a:moveTo>
                <a:lnTo>
                  <a:pt x="272262" y="218295"/>
                </a:lnTo>
                <a:lnTo>
                  <a:pt x="356394" y="0"/>
                </a:lnTo>
                <a:lnTo>
                  <a:pt x="440525" y="218295"/>
                </a:lnTo>
                <a:lnTo>
                  <a:pt x="712786" y="218293"/>
                </a:lnTo>
                <a:lnTo>
                  <a:pt x="492521" y="353205"/>
                </a:lnTo>
                <a:lnTo>
                  <a:pt x="576656" y="571499"/>
                </a:lnTo>
                <a:lnTo>
                  <a:pt x="356394" y="436584"/>
                </a:lnTo>
                <a:lnTo>
                  <a:pt x="136131" y="571499"/>
                </a:lnTo>
                <a:lnTo>
                  <a:pt x="220266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Point Star 22"/>
          <p:cNvSpPr/>
          <p:nvPr/>
        </p:nvSpPr>
        <p:spPr>
          <a:xfrm>
            <a:off x="9537840" y="438120"/>
            <a:ext cx="711000" cy="569880"/>
          </a:xfrm>
          <a:custGeom>
            <a:avLst/>
            <a:gdLst/>
            <a:ahLst/>
            <a:rect l="l" t="t" r="r" b="b"/>
            <a:pathLst>
              <a:path w="711200" h="569913">
                <a:moveTo>
                  <a:pt x="1" y="217687"/>
                </a:moveTo>
                <a:lnTo>
                  <a:pt x="271656" y="217688"/>
                </a:lnTo>
                <a:lnTo>
                  <a:pt x="355600" y="0"/>
                </a:lnTo>
                <a:lnTo>
                  <a:pt x="439544" y="217688"/>
                </a:lnTo>
                <a:lnTo>
                  <a:pt x="711199" y="217687"/>
                </a:lnTo>
                <a:lnTo>
                  <a:pt x="491425" y="352224"/>
                </a:lnTo>
                <a:lnTo>
                  <a:pt x="575372" y="569912"/>
                </a:lnTo>
                <a:lnTo>
                  <a:pt x="355600" y="435372"/>
                </a:lnTo>
                <a:lnTo>
                  <a:pt x="135828" y="569912"/>
                </a:lnTo>
                <a:lnTo>
                  <a:pt x="219775" y="352224"/>
                </a:lnTo>
                <a:lnTo>
                  <a:pt x="1" y="21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Point Star 23"/>
          <p:cNvSpPr/>
          <p:nvPr/>
        </p:nvSpPr>
        <p:spPr>
          <a:xfrm>
            <a:off x="8632800" y="431640"/>
            <a:ext cx="711360" cy="571680"/>
          </a:xfrm>
          <a:custGeom>
            <a:avLst/>
            <a:gdLst/>
            <a:ahLst/>
            <a:rect l="l" t="t" r="r" b="b"/>
            <a:pathLst>
              <a:path w="711200" h="571500">
                <a:moveTo>
                  <a:pt x="1" y="218293"/>
                </a:moveTo>
                <a:lnTo>
                  <a:pt x="271656" y="218295"/>
                </a:lnTo>
                <a:lnTo>
                  <a:pt x="355600" y="0"/>
                </a:lnTo>
                <a:lnTo>
                  <a:pt x="439544" y="218295"/>
                </a:lnTo>
                <a:lnTo>
                  <a:pt x="711199" y="218293"/>
                </a:lnTo>
                <a:lnTo>
                  <a:pt x="491425" y="353205"/>
                </a:lnTo>
                <a:lnTo>
                  <a:pt x="575372" y="571499"/>
                </a:lnTo>
                <a:lnTo>
                  <a:pt x="355600" y="436584"/>
                </a:lnTo>
                <a:lnTo>
                  <a:pt x="135828" y="571499"/>
                </a:lnTo>
                <a:lnTo>
                  <a:pt x="21977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iley Face 24"/>
          <p:cNvSpPr/>
          <p:nvPr/>
        </p:nvSpPr>
        <p:spPr>
          <a:xfrm>
            <a:off x="9914040" y="2333520"/>
            <a:ext cx="1057320" cy="979560"/>
          </a:xfrm>
          <a:prstGeom prst="smileyFace">
            <a:avLst>
              <a:gd name="adj" fmla="val 9282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87360" y="5083200"/>
            <a:ext cx="10990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Please do this work again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Bring your </a:t>
            </a: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best effort </a:t>
            </a: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to me next lesso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318960" y="3096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26880" y="4967280"/>
            <a:ext cx="1093644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430200" y="1368360"/>
            <a:ext cx="63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411120" y="9217080"/>
            <a:ext cx="9131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istaprint large rubber stamp 57mm x 2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73 x 248 pix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318960" y="1531800"/>
            <a:ext cx="10935000" cy="402912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48000" y="2041560"/>
            <a:ext cx="63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319640" y="2021040"/>
            <a:ext cx="63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156360" y="2043000"/>
            <a:ext cx="63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8069400" y="2033640"/>
            <a:ext cx="63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iley Face 32"/>
          <p:cNvSpPr/>
          <p:nvPr/>
        </p:nvSpPr>
        <p:spPr>
          <a:xfrm>
            <a:off x="1390680" y="1866960"/>
            <a:ext cx="1057320" cy="979560"/>
          </a:xfrm>
          <a:prstGeom prst="smileyFace">
            <a:avLst>
              <a:gd name="adj" fmla="val 9282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4319640" y="4660920"/>
            <a:ext cx="53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+ EFFORT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iley Face 33"/>
          <p:cNvSpPr/>
          <p:nvPr/>
        </p:nvSpPr>
        <p:spPr>
          <a:xfrm>
            <a:off x="9875880" y="4281480"/>
            <a:ext cx="1057320" cy="979560"/>
          </a:xfrm>
          <a:prstGeom prst="smileyFace">
            <a:avLst>
              <a:gd name="adj" fmla="val -4652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8:32:39Z</dcterms:created>
  <dc:creator>Andrew French</dc:creator>
  <dc:description/>
  <dc:language>en-US</dc:language>
  <cp:lastModifiedBy>Andrew French</cp:lastModifiedBy>
  <dcterms:modified xsi:type="dcterms:W3CDTF">2014-03-26T14:11:04Z</dcterms:modified>
  <cp:revision>47</cp:revision>
  <dc:subject/>
  <dc:title>Slide 1</dc:title>
</cp:coreProperties>
</file>