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036-30CE-4379-866B-EEAD447F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9D6-B852-441F-A558-AF3E43D3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3A8-2B56-423A-B8EA-9F855179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489B-E4F9-4415-B3FB-18FA330F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99F-AEDF-4549-8A01-3AAE270E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0D3-2D5D-4A15-AB15-1199AEF8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F52-7D4F-4E66-A9B0-28460E51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CF1-ECEC-4A01-859D-95F1AEA3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5C4-ADA2-49B3-8839-8D5FBF87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B65-AF59-47AD-B4D5-26E75F0A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860-DE64-4C24-A60E-638CDF16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C2C-C369-4A0D-AC3E-40D2E147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C994-1696-46B1-A23D-7726C85E9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AndyFrench\Documents\Personal\Career\Winchester College 2011-\ProgSoc\04 - Winchester Day 2012\gravity\two star gravity sim. t=1.45.  21-Jun-2012 16-40-18.png"/>
          <p:cNvPicPr/>
          <p:nvPr/>
        </p:nvPicPr>
        <p:blipFill>
          <a:blip r:embed="rId1"/>
          <a:stretch/>
        </p:blipFill>
        <p:spPr>
          <a:xfrm>
            <a:off x="0" y="-3240"/>
            <a:ext cx="91504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AndyFrench\Documents\Personal\Career\Winchester College 2011-\ProgSoc\04 - Winchester Day 2012\gravity\two star gravity sim. t=1.74.  21-Jun-2012 16-40-40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:\AndyFrench\Documents\Personal\Career\Winchester College 2011-\ProgSoc\04 - Winchester Day 2012\gravity\two star gravity sim. t=2.43.  21-Jun-2012 16-41-32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AndyFrench\Documents\Personal\Career\Winchester College 2011-\ProgSoc\04 - Winchester Day 2012\gravity\two star gravity sim. t=2.71.  21-Jun-2012 16-41-54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AndyFrench\Documents\Personal\Career\Winchester College 2011-\ProgSoc\04 - Winchester Day 2012\gravity\two star gravity sim. t=2.92.  21-Jun-2012 16-42-12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AndyFrench\Documents\Personal\Career\Winchester College 2011-\ProgSoc\04 - Winchester Day 2012\gravity\two star gravity sim. t=1.21.  21-Jun-2012 16-47-38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:\AndyFrench\Documents\Personal\Career\Winchester College 2011-\ProgSoc\04 - Winchester Day 2012\gravity\two star gravity sim. t=1.58.  21-Jun-2012 16-48-03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AndyFrench\Documents\Personal\Career\Winchester College 2011-\ProgSoc\04 - Winchester Day 2012\gravity\two star gravity sim. t=2.3.  21-Jun-2012 16-48-48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:\AndyFrench\Documents\Personal\Career\Winchester College 2011-\ProgSoc\04 - Winchester Day 2012\gravity\two star gravity sim. t=2.97.  21-Jun-2012 16-49-32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AndyFrench\Documents\Personal\Career\Winchester College 2011-\ProgSoc\04 - Winchester Day 2012\gravity\two star gravity sim. t=3.32.  21-Jun-2012 16-49-57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AndyFrench\Documents\Personal\Career\Winchester College 2011-\ProgSoc\04 - Winchester Day 2012\gravity\two star gravity sim. t=2.2.  21-Jun-2012 16-32-51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:\AndyFrench\Documents\Personal\Career\Winchester College 2011-\ProgSoc\04 - Winchester Day 2012\gravity\two star gravity sim. t=3.57.  21-Jun-2012 16-50-15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AndyFrench\Documents\Personal\Career\Winchester College 2011-\ProgSoc\04 - Winchester Day 2012\gravity\two star gravity sim. t=5.04.  21-Jun-2012 16-51-54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E:\AndyFrench\Documents\Personal\Career\Winchester College 2011-\ProgSoc\04 - Winchester Day 2012\gravity\two star gravity sim. t=7.39.  21-Jun-2012 16-54-44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AndyFrench\Documents\Personal\Career\Winchester College 2011-\ProgSoc\04 - Winchester Day 2012\gravity\two star gravity sim. t=9.13.  21-Jun-2012 16-57-04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E:\AndyFrench\Documents\Personal\Career\Winchester College 2011-\ProgSoc\04 - Winchester Day 2012\gravity\two star globular gravity sim. t=0.26.  08-May-2012 14-45-30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AndyFrench\Documents\Personal\Career\Winchester College 2011-\ProgSoc\04 - Winchester Day 2012\gravity\two star globular gravity sim. t=0.34.  08-May-2012 14-45-33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:\AndyFrench\Documents\Personal\Career\Winchester College 2011-\ProgSoc\04 - Winchester Day 2012\gravity\two star globular gravity sim. t=0.42.  08-May-2012 14-45-35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AndyFrench\Documents\Personal\Career\Winchester College 2011-\ProgSoc\04 - Winchester Day 2012\gravity\two star globular gravity sim. t=0.55.  08-May-2012 14-45-39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:\AndyFrench\Documents\Personal\Career\Winchester College 2011-\ProgSoc\04 - Winchester Day 2012\gravity\two star globular gravity sim. t=1.51.  08-May-2012 14-45-58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AndyFrench\Documents\Personal\Career\Winchester College 2011-\ProgSoc\04 - Winchester Day 2012\gravity\two star gravity sim. t=2.79.  24-May-2012 16-15-07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E:\AndyFrench\Documents\Personal\Career\Winchester College 2011-\ProgSoc\04 - Winchester Day 2012\MATLAB.png"/>
          <p:cNvPicPr/>
          <p:nvPr/>
        </p:nvPicPr>
        <p:blipFill>
          <a:blip r:embed="rId1"/>
          <a:stretch/>
        </p:blipFill>
        <p:spPr>
          <a:xfrm>
            <a:off x="106200" y="0"/>
            <a:ext cx="896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AndyFrench\Documents\Personal\Career\Winchester College 2011-\ProgSoc\04 - Winchester Day 2012\gravity\two star gravity sim. t=0.07.  21-Jun-2012 16-38-44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E:\AndyFrench\Documents\Personal\Career\Winchester College 2011-\ProgSoc\04 - Winchester Day 2012\gravity\two star gravity sim. t=0.43.  21-Jun-2012 16-39-08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AndyFrench\Documents\Personal\Career\Winchester College 2011-\ProgSoc\04 - Winchester Day 2012\gravity\two star gravity sim. t=0.75.  21-Jun-2012 16-39-30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AndyFrench\Documents\Personal\Career\Winchester College 2011-\ProgSoc\04 - Winchester Day 2012\gravity\two star gravity sim. t=1.2.  21-Jun-2012 16-40-00.pn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AndyFrench\Documents\Personal\Career\Winchester College 2011-\ProgSoc\04 - Winchester Day 2012\gravity\two star gravity sim. t=1.9.  21-Jun-2012 16-40-53.pn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ndy French</dc:creator>
  <dc:description/>
  <dc:language>en-US</dc:language>
  <cp:lastModifiedBy>Andrew French</cp:lastModifiedBy>
  <dcterms:modified xsi:type="dcterms:W3CDTF">2012-08-22T14:05:47Z</dcterms:modified>
  <cp:revision>8</cp:revision>
  <dc:subject/>
  <dc:title>Slide 1</dc:title>
</cp:coreProperties>
</file>