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EA5C-2C04-4E8D-8FBE-4C630EC45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14BA-99B3-4272-A665-3D5F3F6F4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652-DD83-4942-B280-DBED9B8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A6A-63A8-4854-9BA2-21C7A1E5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2E4-ADC0-43D9-B322-C6445CB0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D68-EDC0-4415-A9FA-D3C24B58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9E3-F2CB-4654-A531-0D802FD0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B8E-0550-4898-AF6B-DD169F5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8A4-30DC-4761-88C6-5566E2B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92E-3909-41E2-BE8C-F05913F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BE6-8F93-4ABB-BAAC-2CE25D92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8F7-EEA9-4A5C-A90C-B678EFE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7DF-F4F8-4CBB-A42E-4C2C229F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783-B197-4D95-A973-F8AFAD3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EC2-2A5A-4EFA-A0C3-341D08201A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1440" y="100080"/>
            <a:ext cx="9146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349080" y="131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 flipH="1" flipV="1">
            <a:off x="3282120" y="1050480"/>
            <a:ext cx="14364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TextBox 5"/>
          <p:cNvSpPr/>
          <p:nvPr/>
        </p:nvSpPr>
        <p:spPr>
          <a:xfrm>
            <a:off x="2057760" y="1197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12240" y="776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344680" y="776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8"/>
          <p:cNvCxnSpPr/>
          <p:nvPr/>
        </p:nvCxnSpPr>
        <p:spPr>
          <a:xfrm flipV="1">
            <a:off x="2936880" y="1069560"/>
            <a:ext cx="270720" cy="29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481720" y="1060560"/>
            <a:ext cx="2512800" cy="650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2"/>
          <p:cNvSpPr/>
          <p:nvPr/>
        </p:nvSpPr>
        <p:spPr>
          <a:xfrm>
            <a:off x="4276800" y="3917880"/>
            <a:ext cx="26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ized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.e. area under curv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227560" y="4869000"/>
            <a:ext cx="30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 distribution f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mean and standard deviations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5"/>
          <p:cNvCxnSpPr/>
          <p:nvPr/>
        </p:nvCxnSpPr>
        <p:spPr>
          <a:xfrm flipH="1">
            <a:off x="3212640" y="4140360"/>
            <a:ext cx="1075680" cy="197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17"/>
          <p:cNvCxnSpPr/>
          <p:nvPr/>
        </p:nvCxnSpPr>
        <p:spPr>
          <a:xfrm flipH="1">
            <a:off x="4423680" y="5152680"/>
            <a:ext cx="840600" cy="19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TextBox 19"/>
          <p:cNvSpPr/>
          <p:nvPr/>
        </p:nvSpPr>
        <p:spPr>
          <a:xfrm>
            <a:off x="-21960" y="6618240"/>
            <a:ext cx="32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s by Andrew French. November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2194200" y="578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 75: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-Point Star 21"/>
          <p:cNvSpPr/>
          <p:nvPr/>
        </p:nvSpPr>
        <p:spPr>
          <a:xfrm>
            <a:off x="2260440" y="6116760"/>
            <a:ext cx="198720" cy="185760"/>
          </a:xfrm>
          <a:custGeom>
            <a:avLst/>
            <a:gdLst>
              <a:gd name="textAreaLeft" fmla="*/ 61200 w 198720"/>
              <a:gd name="textAreaRight" fmla="*/ 137520 w 198720"/>
              <a:gd name="textAreaTop" fmla="*/ 70920 h 185760"/>
              <a:gd name="textAreaBottom" fmla="*/ 141840 h 185760"/>
            </a:gdLst>
            <a:ahLst/>
            <a:rect l="textAreaLeft" t="textAreaTop" r="textAreaRight" b="textAreaBottom"/>
            <a:pathLst>
              <a:path w="198438" h="185737">
                <a:moveTo>
                  <a:pt x="0" y="70945"/>
                </a:moveTo>
                <a:lnTo>
                  <a:pt x="75797" y="70946"/>
                </a:lnTo>
                <a:lnTo>
                  <a:pt x="99219" y="0"/>
                </a:lnTo>
                <a:lnTo>
                  <a:pt x="122641" y="70946"/>
                </a:lnTo>
                <a:lnTo>
                  <a:pt x="198438" y="70945"/>
                </a:lnTo>
                <a:lnTo>
                  <a:pt x="137117" y="114791"/>
                </a:lnTo>
                <a:lnTo>
                  <a:pt x="160540" y="185736"/>
                </a:lnTo>
                <a:lnTo>
                  <a:pt x="99219" y="141889"/>
                </a:lnTo>
                <a:lnTo>
                  <a:pt x="37898" y="185736"/>
                </a:lnTo>
                <a:lnTo>
                  <a:pt x="61321" y="11479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7564320" y="3724200"/>
            <a:ext cx="714600" cy="8319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400800" y="189000"/>
            <a:ext cx="946080" cy="503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400800" y="836640"/>
            <a:ext cx="946080" cy="504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400800" y="1484280"/>
            <a:ext cx="946080" cy="504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7427160" y="2602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5 205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462080" y="9079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30 185 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7435080" y="1557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5 214 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0" y="3454560"/>
            <a:ext cx="4538520" cy="340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4"/>
          <p:cNvSpPr/>
          <p:nvPr/>
        </p:nvSpPr>
        <p:spPr>
          <a:xfrm>
            <a:off x="5181480" y="3040200"/>
            <a:ext cx="27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Run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s Great South Run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ll run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2"/>
          <a:stretch/>
        </p:blipFill>
        <p:spPr>
          <a:xfrm>
            <a:off x="0" y="345456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3"/>
          <a:stretch/>
        </p:blipFill>
        <p:spPr>
          <a:xfrm>
            <a:off x="4605480" y="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4"/>
          <a:stretch/>
        </p:blipFill>
        <p:spPr>
          <a:xfrm>
            <a:off x="4605480" y="3454560"/>
            <a:ext cx="4538520" cy="3403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2706840" y="704880"/>
            <a:ext cx="18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97120" y="4181400"/>
            <a:ext cx="182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South 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7319880" y="712800"/>
            <a:ext cx="18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7319880" y="4164120"/>
            <a:ext cx="18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South 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0" y="3454560"/>
            <a:ext cx="4538520" cy="3403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2706840" y="704880"/>
            <a:ext cx="18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697120" y="4329000"/>
            <a:ext cx="18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881600" y="1407960"/>
            <a:ext cx="37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Run times divid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1/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enable a fair comparison between the North (13.1 miles) and South (10 mile) ru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his assumes the same average pace for both races. This is unlikely to be true, especially for elite runners, and also the t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345456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605480" y="0"/>
            <a:ext cx="4538520" cy="340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4605480" y="3454560"/>
            <a:ext cx="4538520" cy="3403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706840" y="704880"/>
            <a:ext cx="18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m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7278840" y="695160"/>
            <a:ext cx="18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N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697120" y="4181400"/>
            <a:ext cx="182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South 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7319880" y="4164120"/>
            <a:ext cx="18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South Run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20:13:03Z</dcterms:created>
  <dc:creator>Andrew French</dc:creator>
  <dc:description/>
  <dc:language>en-US</dc:language>
  <cp:lastModifiedBy>Andrew French</cp:lastModifiedBy>
  <dcterms:modified xsi:type="dcterms:W3CDTF">2013-11-24T14:51:29Z</dcterms:modified>
  <cp:revision>32</cp:revision>
  <dc:subject/>
  <dc:title>Slide 1</dc:title>
</cp:coreProperties>
</file>